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499A5-7FE1-4E02-8D80-5F2A5F18E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8E2DE-A497-4AB1-9267-B3DF2C297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0BC00F-D82D-4D4B-842D-70078DBBFA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E6B23D-89E7-4C3E-B542-4E0661A293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2D8D7D-9BDE-422D-A629-823AB743C4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98D357-8342-4182-B988-EE6E6B83FF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950036-3578-47E4-B93D-044C976881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240077-8BCF-467C-84EF-90DB96AA9B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0E3A7A-F5A5-4C7F-AC51-E22AE235F6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54188E-A075-4DF7-9A04-62DB5D252E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468F21-C46A-4F97-9AC2-1773F5C91D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867023-F0BE-4639-889C-742EC77C82D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28E44-C34E-490D-94B4-C49501D14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322140-74C9-4417-8CFB-21661373C7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7B887B-1FA2-41E4-B526-12DA5F6028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F5A05D-CCAB-4808-98E6-FAB7A83A01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60AC86-D58D-4823-AD20-C6CAEA2EC3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5A97E0-D655-4E15-A8CF-B91F67AE97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D9C8BA-FC79-4DD0-9BB8-DFF2DCA302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7F57EB-68B5-4BD4-88E5-A76E64D9CB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C94FAB-2424-41E6-8456-CA10F0B7C2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0EB161-2746-4EE6-B990-B069E3E88F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090657-E258-4FB6-9DF0-431F2F2B1DD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D3EFA-6937-469F-9590-6155279C9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0FB8FD1-C177-4C23-A9F0-2EF1E91063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3F8AF9F-D82F-4867-A230-DDD1935DCA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5C3CCE-4455-4F4F-9A9A-FF10A78982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D367EF-7D02-4E93-A9E3-20AD50EE89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F94306-DDCE-4427-BD0F-CBCEA91C46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2870E8-8137-48D2-BA2D-1DE084D3A2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18D33C-F021-4BB7-8EDC-F7DC2F55D3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A0B662-5CCE-42CD-B678-B6FE44E395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53DDC8-6A9A-4CA1-B41B-C086C9D20B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93C0BE-5DCE-41F6-80EC-DA4755854C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95B3FF-CFC0-4A41-AF98-E4981256C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77DB51-DFF5-4648-81F8-3787005328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D461AE-AF09-4BD5-AD52-3D7107E793B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890492-CFA5-4370-8927-6EB96555927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63A31AC-8992-43C2-B945-BFACB187E84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2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F07D09-73BF-4826-B9F0-2FF9FE4CCF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005B52-F19F-4AD0-A4DE-39E2C31F63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11EEB5-57FF-4237-849A-78AC1AC4E6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91027F-E815-4AF2-9445-E017DED7AC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402CE0-B187-4AD2-8ABD-EEB5ED2A3F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3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188E1E-7E88-4DA8-8801-F4DE3EB392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424F8-42AE-4C67-817B-44B4F8614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862B8E-58F9-4B9E-AAAC-E2CDC0FB82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FA516F-0E71-49CD-B30B-8CAD86E3BC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4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48623A-244E-4C12-A670-9B1A5F1EBC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5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F42DC61-D3E5-4D42-9C1F-C15FB068546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5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8224DA1-D5AE-484E-9BCF-9AEA7B85E0D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94056-4C55-497E-8FE0-F0DC37794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2EA97-6F38-4609-BA9E-D78D4E455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3CBB8-37F6-4DD0-82A8-B4E5698DF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12D30-0E29-4991-83A4-DE62EF184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48CBD-CC42-48AA-A29C-1A2250202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BF875-B396-40F9-B825-4AC55732F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5E0C8-212F-4FAD-9231-B54DA77DC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F098A-239E-4FC6-B4B3-C16C69380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36A93-3BDE-4268-82FF-AC456E787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8164A-08C9-433A-A842-15B2E8B9A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FD1BD6-A435-4B85-8C21-21A5EB8861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D7E12A-2CDB-4E25-8724-8ED595D9AB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52AFE9-B621-42E1-BC1D-2FBA9A4D00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0297A-33E5-4271-9EC0-EA5163DBFB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D16563-034F-4BBE-8D15-16752E15A5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AAF453-48A5-499E-8086-33B1574C13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865B9-2F4F-40EF-99F4-88D68B981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86F09B-0E90-49CD-8ACE-3E698CA708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09E8BB-6294-4A98-B6D7-99AF0E04C3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AD397B-6BC2-4D73-9997-7B4B6695A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BC122F-4403-4B45-9366-3860E06FEE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A27444-8E04-4959-B364-BFE520FDCE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A36FC8-729B-40B3-BF6B-1983EF9D83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D97C59-C0E3-4243-9A24-9FBF9CD4FF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A3F6C9-410E-44BC-AAB5-C201FFDA4D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F6C33B-F481-452D-AE27-5F8926024D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312B4A-73A4-4D91-8B98-9BBE6FF728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9C560-7DED-4BEB-8D1E-2A0C34CDF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329414-3311-4961-AE2F-002D9ECE12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7DB135-FC61-4CDE-BBF5-58E29FF0DC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37D997-57DF-482E-BF08-A5E8021094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FC6FF1-A3C7-4505-B995-A6B35D8242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89F574-1108-4828-94C2-A0D0EA8D5C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E29F39-BF01-4F3C-B71C-A5C98C3750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1E08B8-6ECC-4E92-9F2E-AC01ECCB28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B90BB9-E76F-4A51-A300-585591A8AB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1EF9F6-E7F6-4201-812F-E81DC502F6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FCA7D1-5EAE-4AEF-A67F-2159AC34C8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92E10-DB9D-4596-AE60-325BF283B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B9B464-530C-495B-AA5D-28F803F106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795FC5-DAD2-4BEC-B3B3-708F79B8FF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E8075B-E47C-47AD-97F5-562ED19042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594645-1EA6-48AA-BAA3-9A4F10D060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61D2CA-BB19-49DD-B30B-5BB5C9A4F7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ABC755-E610-4A8F-A4D4-616E3B5BC2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3DD282-FFAC-49D1-A620-04E3C03D49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7B616-500C-43B4-92B6-AD36E8C6C0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792196-AC2D-41DF-96AD-0B5E812BB5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E63338-A88F-4B6F-8B39-DBC425CD96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F965A-7B29-4E2E-B4F7-2B0280E78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45D2B2-ACCD-4B63-B307-BEB8BE47E1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622213-A596-42B5-9D33-94AF6C6D23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E75278-047B-45EF-AC68-2E141CA36C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0A87AD-BD4E-4441-B8E0-D6B4A6DF71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86B5C3-50AB-43C4-B93A-7F18F50B72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FF86CB-1E27-4056-85AD-353CCFB19A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A7B744-F3A9-4BEA-B95F-B914D92139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AD3088-6979-4645-AC05-01483AB1BB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569328-345A-4F55-800D-4B034BC39E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DB667E-15DE-4AEC-AA86-ADF89FFB3D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C0FBA-5A3A-49A3-AB13-06F164990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72A23C-4E37-4C3F-9BC4-3CAFD96182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CDC67B-AA30-4E89-B3C9-59D49CFE2F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6BE1FC-AE89-42CB-A499-21B0593CCF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6FCE32-D8E7-4F56-8E3C-D9B196B3CC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25931E-A724-4095-B292-2C43117C40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C4BB00-AF0E-40EF-A394-241DB54F98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42D7A6-0617-46EE-B0D1-448272A343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999943-631E-4756-96D2-C193B5F8BE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4593E0-08CE-4D26-BE5C-C5109B3FCD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769A31-5350-4FE6-9D50-09B7D98E8C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3DC8F-468F-469A-B5CB-44394650A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BF2624-E425-4E30-81DD-36A8BC7B61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F6A727-EE59-471E-A238-98882FB614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DAB9F8-19D4-42AA-A6E0-27FDC47930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DB31A8-87E3-4BD7-8130-4F55F7AF03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DCBB65-9358-4E9E-B429-9133B1D413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9AE8B8-7BF0-4AB9-8E41-979143E000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6249FC-FD73-4306-BFED-430934A2BD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D24495-DB41-46B3-ACC9-32FBBC06CD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5AF393-25D6-4D01-ACFE-28770C0EFF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57A17D-A549-4430-9B29-B81E729148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370A3-91D4-4AC2-BE64-5FCB78068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1F8BDC-1701-49AB-A42B-1EA59FF487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1E72F2-B0FD-4E8E-AE58-E03486CE78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1846E9-57A6-4F18-966E-860C10DE52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3F45C9-D9B5-4DB8-AA7A-955CD072FF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9A50DE-E1B7-4640-AF41-71034B80F0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309CD6-547C-4665-A955-67C850F311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93F63E-0C12-407A-A6A5-B0ADF10673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8B92D6-A06F-4D2E-AB67-43A3CE61A6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896FAE-4640-4A23-A17E-7184B71409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51AA90-D626-400C-9344-4B8C5D28041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49DA-C0A1-477E-BCF5-58C06F7A87A9}" type="slidenum">
              <a:rPr b="0" lang="fr-FR"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1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18"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19"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20"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016F-0316-4B96-A7A8-61AB5443E833}" type="slidenum">
              <a:rPr b="0" lang="fr-FR"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1" name=""/>
          <p:cNvGrpSpPr/>
          <p:nvPr/>
        </p:nvGrpSpPr>
        <p:grpSpPr>
          <a:xfrm>
            <a:off x="195120" y="235080"/>
            <a:ext cx="3787920" cy="1778040"/>
            <a:chOff x="195120" y="235080"/>
            <a:chExt cx="3787920" cy="1778040"/>
          </a:xfrm>
        </p:grpSpPr>
        <p:sp>
          <p:nvSpPr>
            <p:cNvPr id="722"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23"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24"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725" name=""/>
            <p:cNvGrpSpPr/>
            <p:nvPr/>
          </p:nvGrpSpPr>
          <p:grpSpPr>
            <a:xfrm>
              <a:off x="195120" y="235080"/>
              <a:ext cx="3787920" cy="1716120"/>
              <a:chOff x="195120" y="235080"/>
              <a:chExt cx="3787920" cy="1716120"/>
            </a:xfrm>
          </p:grpSpPr>
          <p:sp>
            <p:nvSpPr>
              <p:cNvPr id="726"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27"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28"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29"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30"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grpSp>
        <p:nvGrpSpPr>
          <p:cNvPr id="731" name=""/>
          <p:cNvGrpSpPr/>
          <p:nvPr/>
        </p:nvGrpSpPr>
        <p:grpSpPr>
          <a:xfrm>
            <a:off x="7797600" y="4318560"/>
            <a:ext cx="979920" cy="1159560"/>
            <a:chOff x="7797600" y="4318560"/>
            <a:chExt cx="979920" cy="1159560"/>
          </a:xfrm>
        </p:grpSpPr>
        <p:sp>
          <p:nvSpPr>
            <p:cNvPr id="732"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33"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34"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735" name=""/>
            <p:cNvGrpSpPr/>
            <p:nvPr/>
          </p:nvGrpSpPr>
          <p:grpSpPr>
            <a:xfrm>
              <a:off x="7797600" y="4318560"/>
              <a:ext cx="979920" cy="1159560"/>
              <a:chOff x="7797600" y="4318560"/>
              <a:chExt cx="979920" cy="1159560"/>
            </a:xfrm>
          </p:grpSpPr>
          <p:sp>
            <p:nvSpPr>
              <p:cNvPr id="736"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37"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38"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39"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40"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sp>
        <p:nvSpPr>
          <p:cNvPr id="741"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42"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8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81"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82"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783"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8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85"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25F82-0054-4023-96D9-F0EFC8D76E32}" type="slidenum">
              <a:rPr b="0" lang="fr-F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23"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24"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25"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2396-FE64-44BC-94EA-301BAD58C337}" type="slidenum">
              <a:rPr b="0" lang="fr-FR"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8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F221-0B40-4E63-AAAA-5BA8455AE3FE}" type="slidenum">
              <a:rPr b="0" lang="fr-FR" sz="1400" spc="-1" strike="noStrike">
                <a:solidFill>
                  <a:srgbClr val="ffffff"/>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0" y="0"/>
            <a:ext cx="2666880" cy="6858000"/>
            <a:chOff x="0" y="0"/>
            <a:chExt cx="2666880" cy="6858000"/>
          </a:xfrm>
        </p:grpSpPr>
        <p:sp>
          <p:nvSpPr>
            <p:cNvPr id="35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pic>
          <p:nvPicPr>
            <p:cNvPr id="352" name="" descr=""/>
            <p:cNvPicPr/>
            <p:nvPr/>
          </p:nvPicPr>
          <p:blipFill>
            <a:blip r:embed="rId2"/>
            <a:stretch/>
          </p:blipFill>
          <p:spPr>
            <a:xfrm>
              <a:off x="0" y="0"/>
              <a:ext cx="2139840" cy="6858000"/>
            </a:xfrm>
            <a:prstGeom prst="rect">
              <a:avLst/>
            </a:prstGeom>
            <a:ln w="0">
              <a:noFill/>
            </a:ln>
          </p:spPr>
        </p:pic>
      </p:grpSp>
      <p:sp>
        <p:nvSpPr>
          <p:cNvPr id="3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5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5"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5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57"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61E7-9185-4354-813F-10441CF0F6C1}"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2"/>
          <a:stretch/>
        </p:blipFill>
        <p:spPr>
          <a:xfrm>
            <a:off x="0" y="0"/>
            <a:ext cx="9144000" cy="6862680"/>
          </a:xfrm>
          <a:prstGeom prst="rect">
            <a:avLst/>
          </a:prstGeom>
          <a:ln w="0">
            <a:noFill/>
          </a:ln>
        </p:spPr>
      </p:pic>
      <p:sp>
        <p:nvSpPr>
          <p:cNvPr id="395" name="PlaceHolder 1"/>
          <p:cNvSpPr>
            <a:spLocks noGrp="1"/>
          </p:cNvSpPr>
          <p:nvPr>
            <p:ph type="dt" idx="10"/>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6"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97" name="PlaceHolder 3"/>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2C87-4D90-4A18-BC1C-242B2C05BEEC}"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36"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7"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9"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16D8-6E6E-43D6-8C13-5DD7EEBFAD7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77" name="PlaceHolder 2"/>
          <p:cNvSpPr>
            <a:spLocks noGrp="1"/>
          </p:cNvSpPr>
          <p:nvPr>
            <p:ph type="dt" idx="16"/>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8"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9" name="PlaceHolder 4"/>
          <p:cNvSpPr>
            <a:spLocks noGrp="1"/>
          </p:cNvSpPr>
          <p:nvPr>
            <p:ph type="sldNum" idx="18"/>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375E-A242-4D15-9FB4-61A31200809B}"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16" name=""/>
          <p:cNvGrpSpPr/>
          <p:nvPr/>
        </p:nvGrpSpPr>
        <p:grpSpPr>
          <a:xfrm>
            <a:off x="0" y="2438280"/>
            <a:ext cx="9144000" cy="4046760"/>
            <a:chOff x="0" y="2438280"/>
            <a:chExt cx="9144000" cy="4046760"/>
          </a:xfrm>
        </p:grpSpPr>
        <p:sp>
          <p:nvSpPr>
            <p:cNvPr id="517"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1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1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cc00"/>
                </a:solidFill>
                <a:latin typeface="Arial"/>
              </a:endParaRPr>
            </a:p>
          </p:txBody>
        </p:sp>
        <p:sp>
          <p:nvSpPr>
            <p:cNvPr id="52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2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3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533"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534"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535"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090A-96E3-4EA7-9903-C09684A48E20}" type="slidenum">
              <a:rPr b="0" lang="fr-F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36"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3" name=""/>
          <p:cNvGrpSpPr/>
          <p:nvPr/>
        </p:nvGrpSpPr>
        <p:grpSpPr>
          <a:xfrm>
            <a:off x="0" y="2438280"/>
            <a:ext cx="9144000" cy="4046760"/>
            <a:chOff x="0" y="2438280"/>
            <a:chExt cx="9144000" cy="4046760"/>
          </a:xfrm>
        </p:grpSpPr>
        <p:sp>
          <p:nvSpPr>
            <p:cNvPr id="574"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75"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76"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77"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78"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79"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0"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1"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2"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3"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4"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cc00"/>
                </a:solidFill>
                <a:latin typeface="Arial"/>
              </a:endParaRPr>
            </a:p>
          </p:txBody>
        </p:sp>
        <p:sp>
          <p:nvSpPr>
            <p:cNvPr id="585"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6"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7"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588"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58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590"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591"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592"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EF7A-0DC2-443E-AE1E-28A2B8D61C46}" type="slidenum">
              <a:rPr b="0" lang="fr-FR"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32"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33"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34"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50A7-0190-42BB-AA9B-F35F0362988B}" type="slidenum">
              <a:rPr b="0" lang="fr-FR"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35"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36"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637" name=""/>
          <p:cNvGrpSpPr/>
          <p:nvPr/>
        </p:nvGrpSpPr>
        <p:grpSpPr>
          <a:xfrm>
            <a:off x="7920" y="5540400"/>
            <a:ext cx="1784520" cy="1246320"/>
            <a:chOff x="7920" y="5540400"/>
            <a:chExt cx="1784520" cy="1246320"/>
          </a:xfrm>
        </p:grpSpPr>
        <p:sp>
          <p:nvSpPr>
            <p:cNvPr id="638"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39"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40"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41"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42"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43"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44"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45"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46"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647" name=""/>
            <p:cNvGrpSpPr/>
            <p:nvPr/>
          </p:nvGrpSpPr>
          <p:grpSpPr>
            <a:xfrm>
              <a:off x="7920" y="5540400"/>
              <a:ext cx="1784520" cy="1238400"/>
              <a:chOff x="7920" y="5540400"/>
              <a:chExt cx="1784520" cy="1238400"/>
            </a:xfrm>
          </p:grpSpPr>
          <p:grpSp>
            <p:nvGrpSpPr>
              <p:cNvPr id="648" name=""/>
              <p:cNvGrpSpPr/>
              <p:nvPr/>
            </p:nvGrpSpPr>
            <p:grpSpPr>
              <a:xfrm>
                <a:off x="792000" y="5654520"/>
                <a:ext cx="870120" cy="1124280"/>
                <a:chOff x="792000" y="5654520"/>
                <a:chExt cx="870120" cy="1124280"/>
              </a:xfrm>
            </p:grpSpPr>
            <p:sp>
              <p:nvSpPr>
                <p:cNvPr id="649"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50"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51"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652"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53"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54"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655" name=""/>
              <p:cNvGrpSpPr/>
              <p:nvPr/>
            </p:nvGrpSpPr>
            <p:grpSpPr>
              <a:xfrm>
                <a:off x="7920" y="5540400"/>
                <a:ext cx="1784520" cy="1076400"/>
                <a:chOff x="7920" y="5540400"/>
                <a:chExt cx="1784520" cy="1076400"/>
              </a:xfrm>
            </p:grpSpPr>
            <p:sp>
              <p:nvSpPr>
                <p:cNvPr id="656"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57"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58"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59"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60"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61"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62"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63"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grpSp>
      <p:grpSp>
        <p:nvGrpSpPr>
          <p:cNvPr id="664" name=""/>
          <p:cNvGrpSpPr/>
          <p:nvPr/>
        </p:nvGrpSpPr>
        <p:grpSpPr>
          <a:xfrm>
            <a:off x="8680320" y="2116080"/>
            <a:ext cx="385920" cy="4308480"/>
            <a:chOff x="8680320" y="2116080"/>
            <a:chExt cx="385920" cy="4308480"/>
          </a:xfrm>
        </p:grpSpPr>
        <p:sp>
          <p:nvSpPr>
            <p:cNvPr id="665"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66"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nvGrpSpPr>
          <p:cNvPr id="667" name=""/>
          <p:cNvGrpSpPr/>
          <p:nvPr/>
        </p:nvGrpSpPr>
        <p:grpSpPr>
          <a:xfrm>
            <a:off x="7171560" y="-87480"/>
            <a:ext cx="2427480" cy="2247120"/>
            <a:chOff x="7171560" y="-87480"/>
            <a:chExt cx="2427480" cy="2247120"/>
          </a:xfrm>
        </p:grpSpPr>
        <p:grpSp>
          <p:nvGrpSpPr>
            <p:cNvPr id="668" name=""/>
            <p:cNvGrpSpPr/>
            <p:nvPr/>
          </p:nvGrpSpPr>
          <p:grpSpPr>
            <a:xfrm>
              <a:off x="7171560" y="-87480"/>
              <a:ext cx="2427480" cy="2247120"/>
              <a:chOff x="7171560" y="-87480"/>
              <a:chExt cx="2427480" cy="2247120"/>
            </a:xfrm>
          </p:grpSpPr>
          <p:sp>
            <p:nvSpPr>
              <p:cNvPr id="669"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nvGrpSpPr>
              <p:cNvPr id="670" name=""/>
              <p:cNvGrpSpPr/>
              <p:nvPr/>
            </p:nvGrpSpPr>
            <p:grpSpPr>
              <a:xfrm>
                <a:off x="7171560" y="-87480"/>
                <a:ext cx="2427480" cy="2247120"/>
                <a:chOff x="7171560" y="-87480"/>
                <a:chExt cx="2427480" cy="2247120"/>
              </a:xfrm>
            </p:grpSpPr>
            <p:sp>
              <p:nvSpPr>
                <p:cNvPr id="671"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72"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73"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74"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75"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76"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77"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678"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grpSp>
        <p:sp>
          <p:nvSpPr>
            <p:cNvPr id="679"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package" Target="../embeddings/oleObject1.xlsx"/><Relationship Id="rId4" Type="http://schemas.openxmlformats.org/officeDocument/2006/relationships/image" Target="../media/image7.wmf"/><Relationship Id="rId5" Type="http://schemas.openxmlformats.org/officeDocument/2006/relationships/slideLayout" Target="../slideLayouts/slideLayout1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ent faire une mauvaise présentation</a:t>
            </a:r>
            <a:endParaRPr b="0" lang="en-US" sz="4400" spc="-1" strike="noStrike">
              <a:solidFill>
                <a:srgbClr val="ffffff"/>
              </a:solidFill>
              <a:latin typeface="Arial Black"/>
            </a:endParaRPr>
          </a:p>
        </p:txBody>
      </p:sp>
      <p:sp>
        <p:nvSpPr>
          <p:cNvPr id="8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Black"/>
              </a:rPr>
              <a:t>En 6 slides</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Un Exemple de mauvaise gestion de l’espace</a:t>
            </a:r>
            <a:endParaRPr b="0" lang="en-US" sz="3600" spc="-1" strike="noStrike">
              <a:solidFill>
                <a:srgbClr val="8c0039"/>
              </a:solidFill>
              <a:latin typeface="Arial"/>
            </a:endParaRPr>
          </a:p>
        </p:txBody>
      </p:sp>
      <p:sp>
        <p:nvSpPr>
          <p:cNvPr id="86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marge de gauche prend beaucoup d’espace</a:t>
            </a:r>
            <a:endParaRPr b="0" lang="en-US" sz="3200" spc="-1" strike="noStrike">
              <a:solidFill>
                <a:srgbClr val="000000"/>
              </a:solidFill>
              <a:latin typeface="Arial"/>
            </a:endParaRPr>
          </a:p>
          <a:p>
            <a:pPr lvl="1" marL="743040" indent="-285840">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traits successifs en prennent aussi énormément</a:t>
            </a:r>
            <a:endParaRPr b="0" lang="en-US" sz="2800" spc="-1" strike="noStrike">
              <a:solidFill>
                <a:srgbClr val="000000"/>
              </a:solidFill>
              <a:latin typeface="Arial"/>
            </a:endParaRPr>
          </a:p>
          <a:p>
            <a:pPr lvl="2" marL="1143000" indent="-228600">
              <a:spcBef>
                <a:spcPts val="6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urtant toutes les propositions de cette diapositive sont sur un même plan logique.</a:t>
            </a:r>
            <a:endParaRPr b="0" lang="en-US" sz="2400" spc="-1" strike="noStrike">
              <a:solidFill>
                <a:srgbClr val="000000"/>
              </a:solidFill>
              <a:latin typeface="Arial"/>
            </a:endParaRPr>
          </a:p>
          <a:p>
            <a:pPr lvl="3" marL="1600200" indent="-228600">
              <a:spcBef>
                <a:spcPts val="499"/>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en plus le titre prend beaucoup d’espace vertical.</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ab475"/>
                </a:solidFill>
                <a:latin typeface="Garamond"/>
              </a:rPr>
              <a:t>Mauvaise gestion des couleurs</a:t>
            </a:r>
            <a:endParaRPr b="1" lang="en-US" sz="4400" spc="-1" strike="noStrike">
              <a:solidFill>
                <a:srgbClr val="b9efee"/>
              </a:solidFill>
              <a:latin typeface="Garamond"/>
            </a:endParaRPr>
          </a:p>
        </p:txBody>
      </p:sp>
      <p:sp>
        <p:nvSpPr>
          <p:cNvPr id="8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Garamond"/>
              </a:rPr>
              <a:t>Le titre en vert sur vert, vous trouvez ça lisible, vous ? Remarquez, le bleu est pire</a:t>
            </a:r>
            <a:endParaRPr b="0" lang="en-US" sz="3200" spc="-1" strike="noStrike">
              <a:solidFill>
                <a:srgbClr val="ffffff"/>
              </a:solidFill>
              <a:latin typeface="Garamond"/>
            </a:endParaRPr>
          </a:p>
          <a:p>
            <a:pPr marL="329040" indent="-3290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t pourquoi changer de couleur à chaque ligne, aussi ?</a:t>
            </a:r>
            <a:endParaRPr b="0" lang="en-US" sz="3200" spc="-1" strike="noStrike">
              <a:solidFill>
                <a:srgbClr val="ffffff"/>
              </a:solidFill>
              <a:latin typeface="Garamond"/>
            </a:endParaRPr>
          </a:p>
          <a:p>
            <a:pPr marL="329040" indent="-3290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Garamond"/>
              </a:rPr>
              <a:t>Et n’oubliez pas que 10% de la population a des problèmes pour distinguer les couleurs. </a:t>
            </a:r>
            <a:r>
              <a:rPr b="0" lang="en-US" sz="3200" spc="-1" strike="noStrike">
                <a:solidFill>
                  <a:srgbClr val="663300"/>
                </a:solidFill>
                <a:latin typeface="Garamond"/>
              </a:rPr>
              <a:t>En particulier le marron et le vert.</a:t>
            </a:r>
            <a:endParaRPr b="0" lang="en-US" sz="32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Sydnie"/>
              </a:rPr>
              <a:t>Comment rendre votre présentation illisible</a:t>
            </a:r>
            <a:endParaRPr b="0" lang="en-US" sz="4000" spc="-1" strike="noStrike">
              <a:solidFill>
                <a:srgbClr val="b7e7ff"/>
              </a:solidFill>
              <a:latin typeface="Arial"/>
            </a:endParaRPr>
          </a:p>
        </p:txBody>
      </p:sp>
      <p:sp>
        <p:nvSpPr>
          <p:cNvPr id="8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3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Évidemment, avec une petite police, on en met plus par ligne. Mais personne n’arrivera à vous lire.</a:t>
            </a:r>
            <a:endParaRPr b="0" lang="en-US" sz="1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Même grande, une police cursive est très difficile à lire à l’écran.</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Il en va de même pour les polices avec des empattements prononcés</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Le mélange de majuscules et de minuscules est nettement plus agréable </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QU’UNE LIGNE FAITE UNIQUEMENT DE MAJUSCU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u bon usage des animations.</a:t>
            </a:r>
            <a:endParaRPr b="0" lang="en-US" sz="4400" spc="-1" strike="noStrike">
              <a:solidFill>
                <a:srgbClr val="000000"/>
              </a:solidFill>
              <a:latin typeface="Comic Sans MS"/>
            </a:endParaRPr>
          </a:p>
        </p:txBody>
      </p:sp>
      <p:sp>
        <p:nvSpPr>
          <p:cNvPr id="8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À quoi servent les animation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ssentiellement à vous rendre ridicu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t à distraire l’attention de votre auditoi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c n’en utilisez pas du tou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871"/>
                                        </p:tgtEl>
                                        <p:attrNameLst>
                                          <p:attrName>style.visibility</p:attrName>
                                        </p:attrNameLst>
                                      </p:cBhvr>
                                      <p:to>
                                        <p:strVal val="visible"/>
                                      </p:to>
                                    </p:set>
                                    <p:anim calcmode="lin" valueType="num" by="(-#ppt_w*2)">
                                      <p:cBhvr additive="repl">
                                        <p:cTn id="7" dur="500" autoRev="1" fill="hold">
                                          <p:stCondLst>
                                            <p:cond delay="0"/>
                                          </p:stCondLst>
                                        </p:cTn>
                                        <p:tgtEl>
                                          <p:spTgt spid="871"/>
                                        </p:tgtEl>
                                        <p:attrNameLst>
                                          <p:attrName>ppt_w</p:attrName>
                                        </p:attrNameLst>
                                      </p:cBhvr>
                                    </p:anim>
                                    <p:anim calcmode="lin" valueType="num" by="(#ppt_w*0.50)">
                                      <p:cBhvr additive="repl">
                                        <p:cTn id="8" dur="500" autoRev="1" fill="hold">
                                          <p:stCondLst>
                                            <p:cond delay="0"/>
                                          </p:stCondLst>
                                        </p:cTn>
                                        <p:tgtEl>
                                          <p:spTgt spid="871"/>
                                        </p:tgtEl>
                                        <p:attrNameLst>
                                          <p:attrName>ppt_x</p:attrName>
                                        </p:attrNameLst>
                                      </p:cBhvr>
                                    </p:anim>
                                    <p:anim calcmode="lin" valueType="num" from="(-#ppt_h/2)" to="(#ppt_y)">
                                      <p:cBhvr additive="repl">
                                        <p:cTn id="9" dur="1000" fill="hold">
                                          <p:stCondLst>
                                            <p:cond delay="0"/>
                                          </p:stCondLst>
                                        </p:cTn>
                                        <p:tgtEl>
                                          <p:spTgt spid="871"/>
                                        </p:tgtEl>
                                        <p:attrNameLst>
                                          <p:attrName>ppt_y</p:attrName>
                                        </p:attrNameLst>
                                      </p:cBhvr>
                                    </p:anim>
                                    <p:animRot by="21600000">
                                      <p:cBhvr>
                                        <p:cTn id="10" dur="1000" fill="hold">
                                          <p:stCondLst>
                                            <p:cond delay="0"/>
                                          </p:stCondLst>
                                        </p:cTn>
                                        <p:tgtEl>
                                          <p:spTgt spid="871"/>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872">
                                            <p:txEl>
                                              <p:pRg st="0" end="0"/>
                                            </p:txEl>
                                          </p:spTgt>
                                        </p:tgtEl>
                                        <p:attrNameLst>
                                          <p:attrName>style.visibility</p:attrName>
                                        </p:attrNameLst>
                                      </p:cBhvr>
                                      <p:to>
                                        <p:strVal val="visible"/>
                                      </p:to>
                                    </p:set>
                                    <p:anim calcmode="lin" valueType="num">
                                      <p:cBhvr additive="base">
                                        <p:cTn id="15" dur="500" fill="hold"/>
                                        <p:tgtEl>
                                          <p:spTgt spid="872">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8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872">
                                            <p:txEl>
                                              <p:pRg st="1" end="1"/>
                                            </p:txEl>
                                          </p:spTgt>
                                        </p:tgtEl>
                                        <p:attrNameLst>
                                          <p:attrName>style.visibility</p:attrName>
                                        </p:attrNameLst>
                                      </p:cBhvr>
                                      <p:to>
                                        <p:strVal val="visible"/>
                                      </p:to>
                                    </p:set>
                                    <p:animEffect filter="blinds(horizontal)" transition="in">
                                      <p:cBhvr additive="repl">
                                        <p:cTn id="21" dur="500"/>
                                        <p:tgtEl>
                                          <p:spTgt spid="872">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path" presetID="49">
                                  <p:stCondLst>
                                    <p:cond delay="0"/>
                                  </p:stCondLst>
                                  <p:childTnLst>
                                    <p:animMotion origin="layout" path="M 1.11111E-006 -4.44444E-006 L 0.25 0.3544 E">
                                      <p:cBhvr>
                                        <p:cTn id="25" dur="2000" fill="hold"/>
                                        <p:tgtEl>
                                          <p:spTgt spid="872">
                                            <p:txEl>
                                              <p:pRg st="2" end="2"/>
                                            </p:txEl>
                                          </p:spTgt>
                                        </p:tgtEl>
                                      </p:cBhvr>
                                    </p:animMotion>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6">
                                  <p:stCondLst>
                                    <p:cond delay="0"/>
                                  </p:stCondLst>
                                  <p:childTnLst>
                                    <p:animScale>
                                      <p:cBhvr>
                                        <p:cTn id="29" dur="2000" fill="hold"/>
                                        <p:tgtEl>
                                          <p:spTgt spid="872">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ue se passe-t-il quand on veut mettre trop d’informations sur une seule diapositive ?</a:t>
            </a:r>
            <a:endParaRPr b="0" lang="en-US" sz="3400" spc="-1" strike="noStrike">
              <a:solidFill>
                <a:srgbClr val="000000"/>
              </a:solidFill>
              <a:latin typeface="Verdana"/>
            </a:endParaRPr>
          </a:p>
        </p:txBody>
      </p:sp>
      <p:graphicFrame>
        <p:nvGraphicFramePr>
          <p:cNvPr id="874" name=""/>
          <p:cNvGraphicFramePr/>
          <p:nvPr/>
        </p:nvGraphicFramePr>
        <p:xfrm>
          <a:off x="395280" y="2133720"/>
          <a:ext cx="3925800" cy="2058840"/>
        </p:xfrm>
        <a:graphic>
          <a:graphicData uri="http://schemas.openxmlformats.org/drawingml/2006/table">
            <a:tbl>
              <a:tblPr/>
              <a:tblGrid>
                <a:gridCol w="3925800"/>
              </a:tblGrid>
              <a:tr h="20588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75" name="PlaceHolder 2"/>
          <p:cNvSpPr>
            <a:spLocks noGrp="1"/>
          </p:cNvSpPr>
          <p:nvPr>
            <p:ph/>
          </p:nvPr>
        </p:nvSpPr>
        <p:spPr>
          <a:xfrm>
            <a:off x="539280" y="4508280"/>
            <a:ext cx="8001000" cy="2058840"/>
          </a:xfrm>
          <a:prstGeom prst="rect">
            <a:avLst/>
          </a:prstGeom>
          <a:noFill/>
          <a:ln w="0">
            <a:noFill/>
          </a:ln>
        </p:spPr>
        <p:txBody>
          <a:bodyPr lIns="90000" rIns="90000" tIns="46800" bIns="46800" anchor="t">
            <a:normAutofit/>
          </a:bodyPr>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Parfois, on a beaucoup, mais vraiment beaucoup de choses à dire sur une seule diapo. Du coup, on met énormément de texte, des tableaux, un ou deux graphiques, et en plus des éléments d’analyse. Alors, on choisit une police petite, très petite.</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Même en ne gardant que l’essentiel, il y a beaucoup de commentaires à noter</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Face au manque d’espace, on se met à util. des abbrev. À tout bout de champ, et rapidement on y comprends plus rien.</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Alors, plus phrases, suites mots sans connecteurs logiques.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Et pendant tout ce temps, le public lit la diapo au lieu de vous écouter.</a:t>
            </a:r>
            <a:endParaRPr b="0" lang="en-US" sz="1300" spc="-1" strike="noStrike">
              <a:solidFill>
                <a:srgbClr val="000000"/>
              </a:solidFill>
              <a:latin typeface="Verdana"/>
            </a:endParaRPr>
          </a:p>
        </p:txBody>
      </p:sp>
      <p:pic>
        <p:nvPicPr>
          <p:cNvPr id="876" name="" descr=""/>
          <p:cNvPicPr/>
          <p:nvPr/>
        </p:nvPicPr>
        <p:blipFill>
          <a:blip r:embed="rId2"/>
          <a:stretch/>
        </p:blipFill>
        <p:spPr>
          <a:xfrm>
            <a:off x="4572000" y="2276640"/>
            <a:ext cx="4216320" cy="1904760"/>
          </a:xfrm>
          <a:prstGeom prst="rect">
            <a:avLst/>
          </a:prstGeom>
          <a:ln w="0">
            <a:noFill/>
          </a:ln>
        </p:spPr>
      </p:pic>
      <p:graphicFrame>
        <p:nvGraphicFramePr>
          <p:cNvPr id="877" name=""/>
          <p:cNvGraphicFramePr/>
          <p:nvPr/>
        </p:nvGraphicFramePr>
        <p:xfrm>
          <a:off x="611280" y="2133720"/>
          <a:ext cx="3429000" cy="2003400"/>
        </p:xfrm>
        <a:graphic>
          <a:graphicData uri="http://schemas.openxmlformats.org/presentationml/2006/ole">
            <p:oleObj progId="Excel.Sheet.12" r:id="rId3" spid="">
              <p:embed/>
              <p:pic>
                <p:nvPicPr>
                  <p:cNvPr id="878" name="" descr=""/>
                  <p:cNvPicPr/>
                  <p:nvPr/>
                </p:nvPicPr>
                <p:blipFill>
                  <a:blip r:embed="rId4"/>
                  <a:stretch/>
                </p:blipFill>
                <p:spPr>
                  <a:xfrm>
                    <a:off x="611280" y="2133720"/>
                    <a:ext cx="3429000" cy="200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5:46:27Z</dcterms:created>
  <dc:creator>psepens</dc:creator>
  <dc:description/>
  <dc:language>en-US</dc:language>
  <cp:lastModifiedBy>psepens</cp:lastModifiedBy>
  <dcterms:modified xsi:type="dcterms:W3CDTF">2007-01-11T09:32:38Z</dcterms:modified>
  <cp:revision>4</cp:revision>
  <dc:subject/>
  <dc:title>Comment faire une mauvaise présentation</dc:title>
</cp:coreProperties>
</file>